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7259F-D25E-49A1-AAA4-85CAF10B8E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77CCD-CE10-4064-BBF1-2CC786BCA8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850560"/>
            <a:ext cx="8382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850560"/>
            <a:ext cx="4090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3850560"/>
            <a:ext cx="4090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850560"/>
            <a:ext cx="26989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3850560"/>
            <a:ext cx="26989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3850560"/>
            <a:ext cx="26989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800" y="162000"/>
            <a:ext cx="837432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850560"/>
            <a:ext cx="4090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3850560"/>
            <a:ext cx="4090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850560"/>
            <a:ext cx="8382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20-</a:t>
            </a:r>
            <a:fld id="{5A6CF121-C5EE-431F-AA7A-3F2084190E4F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20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ventory Management, Just-in-Time, and Backflush Cost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ventory Manag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210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 retail organizations, look at purchasing costs, ordering costs, carrying costs, stockout costs and quality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conomic order quantity (EOQ) model calculates the optimal quantity to ord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38 - 74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762120" y="3276720"/>
            <a:ext cx="7772400" cy="2819160"/>
            <a:chOff x="762120" y="3276720"/>
            <a:chExt cx="7772400" cy="2819160"/>
          </a:xfrm>
        </p:grpSpPr>
        <p:sp>
          <p:nvSpPr>
            <p:cNvPr id="53" name=""/>
            <p:cNvSpPr/>
            <p:nvPr/>
          </p:nvSpPr>
          <p:spPr>
            <a:xfrm>
              <a:off x="762120" y="3276720"/>
              <a:ext cx="7772400" cy="28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6000"/>
            </a:bodyPr>
            <a:p>
              <a:pPr marL="329040" indent="-32904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52560"/>
                  <a:tab algn="l" pos="2106720"/>
                  <a:tab algn="l" pos="2395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9040" indent="-3290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52560"/>
                  <a:tab algn="l" pos="2106720"/>
                  <a:tab algn="l" pos="2395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EOQ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=  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9040" indent="-3290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52560"/>
                  <a:tab algn="l" pos="2106720"/>
                  <a:tab algn="l" pos="2395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9040" indent="-3290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52560"/>
                  <a:tab algn="l" pos="2106720"/>
                  <a:tab algn="l" pos="2395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where 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D = demand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9040" indent="-3290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52560"/>
                  <a:tab algn="l" pos="2106720"/>
                  <a:tab algn="l" pos="2395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P = cost of an order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9040" indent="-3290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52560"/>
                  <a:tab algn="l" pos="2106720"/>
                  <a:tab algn="l" pos="2395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 = carrying costs of one unit for the 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time period under consideration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590920" y="3505320"/>
              <a:ext cx="11430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2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52560"/>
                  <a:tab algn="l" pos="2106720"/>
                  <a:tab algn="l" pos="2395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2DP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52560"/>
                  <a:tab algn="l" pos="2106720"/>
                  <a:tab algn="l" pos="2395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819520" y="3962520"/>
              <a:ext cx="6094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362320" y="3429000"/>
              <a:ext cx="1133280" cy="914400"/>
            </a:xfrm>
            <a:custGeom>
              <a:avLst/>
              <a:gdLst/>
              <a:ahLst/>
              <a:rect l="l" t="t" r="r" b="b"/>
              <a:pathLst>
                <a:path w="714" h="576">
                  <a:moveTo>
                    <a:pt x="0" y="474"/>
                  </a:moveTo>
                  <a:lnTo>
                    <a:pt x="54" y="450"/>
                  </a:lnTo>
                  <a:lnTo>
                    <a:pt x="114" y="576"/>
                  </a:lnTo>
                  <a:lnTo>
                    <a:pt x="234" y="0"/>
                  </a:lnTo>
                  <a:lnTo>
                    <a:pt x="714" y="0"/>
                  </a:ln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ventory Mod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2514600"/>
            <a:ext cx="15242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ventory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 Units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41 - 74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81080" y="1676520"/>
            <a:ext cx="106704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,0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362320" y="4267080"/>
            <a:ext cx="6705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Weeks      1       2       3       4       5       6       7      8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59092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00400" y="3962520"/>
            <a:ext cx="53341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00400" y="1828800"/>
            <a:ext cx="2438280" cy="213372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638680" y="1828800"/>
            <a:ext cx="2438640" cy="213372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638680" y="1828800"/>
            <a:ext cx="0" cy="213372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00400" y="2895480"/>
            <a:ext cx="1143000" cy="0"/>
          </a:xfrm>
          <a:prstGeom prst="line">
            <a:avLst/>
          </a:prstGeom>
          <a:ln w="2844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38680" y="2895480"/>
            <a:ext cx="1143000" cy="0"/>
          </a:xfrm>
          <a:prstGeom prst="line">
            <a:avLst/>
          </a:prstGeom>
          <a:ln w="2844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6858000" y="2895480"/>
            <a:ext cx="0" cy="1067040"/>
          </a:xfrm>
          <a:prstGeom prst="line">
            <a:avLst/>
          </a:prstGeom>
          <a:ln w="2844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4343400" y="2895480"/>
            <a:ext cx="0" cy="1067040"/>
          </a:xfrm>
          <a:prstGeom prst="line">
            <a:avLst/>
          </a:prstGeom>
          <a:ln w="2844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67080" y="4952880"/>
            <a:ext cx="15242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Lea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 Week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781680" y="4952880"/>
            <a:ext cx="15242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Lea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 Week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4419360" y="2057400"/>
            <a:ext cx="228600" cy="6858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9880" y="1371600"/>
            <a:ext cx="1524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orde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oi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7009920" y="2057400"/>
            <a:ext cx="228600" cy="6858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400800" y="1371600"/>
            <a:ext cx="1523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orde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oi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 rot="16200000">
            <a:off x="4914720" y="4152240"/>
            <a:ext cx="228600" cy="121896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 rot="16200000">
            <a:off x="7429320" y="4152240"/>
            <a:ext cx="228600" cy="121896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5257800"/>
            <a:ext cx="3276360" cy="838080"/>
          </a:xfrm>
          <a:prstGeom prst="rect">
            <a:avLst/>
          </a:prstGeom>
          <a:noFill/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emand = 250 / week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rder lead time 2 week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ust-In-Time Purchas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79171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Just-In-Time (JIT) purchasing refers to the purchase of goods or materials just prior to demand or us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quires a more open relationship with suppliers and smaller, more frequent ord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imely delivery of quality products is crucial in JIT purchasing environme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panies employing JIT choose suppliers carefull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sider the entire supply chain from cradle to grave (womb to tomb) and share information with all parties involved in the system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44 - 74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terials Requirements Plann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terials requirements planning (MRP) is a push-through system that manufactures finished goods for inventory on the basis of demand foreca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RP us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mand forecasts for the final produ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bill of materials for each produc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 quantities of materials, components and finished products to predetermine the necessary outputs at each stage of produc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nterprise Resource Planning (ERP) systems collects and manages information into a single database to support the achievement of the organization’s goal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50 - 75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80880" y="13716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quential (or synchronous) tracking is a product costing method in which the accounting system entries occur in the same order as actual purchases and produc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rigger point is a stage in the production cycle at which an accounting entry is ma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ackflush Costing &amp; Trigger Poi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55 - 76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4191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raditional Trigger Poin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495000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urchase 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of Direc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Material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90920" y="495144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roduction 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of work in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0" y="495144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ompletion 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of a goo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finished uni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495144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ale of a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finished uni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5408640"/>
            <a:ext cx="304560" cy="0"/>
          </a:xfrm>
          <a:prstGeom prst="line">
            <a:avLst/>
          </a:prstGeom>
          <a:ln w="1908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267080" y="5408640"/>
            <a:ext cx="304920" cy="0"/>
          </a:xfrm>
          <a:prstGeom prst="line">
            <a:avLst/>
          </a:prstGeom>
          <a:ln w="1908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400800" y="5408640"/>
            <a:ext cx="304920" cy="0"/>
          </a:xfrm>
          <a:prstGeom prst="line">
            <a:avLst/>
          </a:prstGeom>
          <a:ln w="1908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ackflush Cost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55 - 76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1219320"/>
            <a:ext cx="79246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ackflush costing is an approach to costing which delays recording changes in the status of the product until the finished goods appea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ackflush costing uses standard costs to work backward and flush out costs for the units produce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86200" y="3733920"/>
            <a:ext cx="2438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nish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oods Contro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324480" y="3733920"/>
            <a:ext cx="24386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 of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oods Sol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14800" y="4419720"/>
            <a:ext cx="20574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629400" y="4419720"/>
            <a:ext cx="19810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7620120" y="4419360"/>
            <a:ext cx="0" cy="99036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105520" y="4419720"/>
            <a:ext cx="0" cy="9144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2057400" y="4267080"/>
            <a:ext cx="2361960" cy="473040"/>
            <a:chOff x="2057400" y="4267080"/>
            <a:chExt cx="2361960" cy="473040"/>
          </a:xfrm>
        </p:grpSpPr>
        <p:sp>
          <p:nvSpPr>
            <p:cNvPr id="107" name=""/>
            <p:cNvSpPr/>
            <p:nvPr/>
          </p:nvSpPr>
          <p:spPr>
            <a:xfrm>
              <a:off x="2057400" y="4740120"/>
              <a:ext cx="236196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361960" y="426708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Direct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2209680" y="4876920"/>
            <a:ext cx="2210040" cy="457200"/>
            <a:chOff x="2209680" y="4876920"/>
            <a:chExt cx="2210040" cy="457200"/>
          </a:xfrm>
        </p:grpSpPr>
        <p:sp>
          <p:nvSpPr>
            <p:cNvPr id="110" name=""/>
            <p:cNvSpPr/>
            <p:nvPr/>
          </p:nvSpPr>
          <p:spPr>
            <a:xfrm>
              <a:off x="2209680" y="5334120"/>
              <a:ext cx="221004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438280" y="487692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Allocated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2133720" y="5257800"/>
            <a:ext cx="5029200" cy="916560"/>
            <a:chOff x="2133720" y="5257800"/>
            <a:chExt cx="5029200" cy="916560"/>
          </a:xfrm>
        </p:grpSpPr>
        <p:sp>
          <p:nvSpPr>
            <p:cNvPr id="113" name=""/>
            <p:cNvSpPr/>
            <p:nvPr/>
          </p:nvSpPr>
          <p:spPr>
            <a:xfrm>
              <a:off x="2133720" y="5715000"/>
              <a:ext cx="373356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5867280" y="5257800"/>
              <a:ext cx="1295640" cy="4572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286000" y="5775480"/>
              <a:ext cx="4191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Unallocated Conversion Costs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457200" y="4267080"/>
            <a:ext cx="1752480" cy="685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irec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terial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5181480"/>
            <a:ext cx="1752480" cy="685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versio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 Contro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57800" y="4556160"/>
            <a:ext cx="1905120" cy="473040"/>
            <a:chOff x="5257800" y="4556160"/>
            <a:chExt cx="1905120" cy="473040"/>
          </a:xfrm>
        </p:grpSpPr>
        <p:sp>
          <p:nvSpPr>
            <p:cNvPr id="119" name=""/>
            <p:cNvSpPr/>
            <p:nvPr/>
          </p:nvSpPr>
          <p:spPr>
            <a:xfrm>
              <a:off x="5257800" y="5029200"/>
              <a:ext cx="190512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504040" y="4556160"/>
              <a:ext cx="12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Sal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7T01:38:32Z</dcterms:created>
  <dc:creator>User</dc:creator>
  <dc:description/>
  <dc:language>en-US</dc:language>
  <cp:lastModifiedBy>John Moore</cp:lastModifiedBy>
  <cp:lastPrinted>1999-06-07T17:15:26Z</cp:lastPrinted>
  <dcterms:modified xsi:type="dcterms:W3CDTF">2003-03-22T13:22:57Z</dcterms:modified>
  <cp:revision>17</cp:revision>
  <dc:subject/>
  <dc:title>No Slide Title</dc:title>
</cp:coreProperties>
</file>